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6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20.xml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9.xml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6.xml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elän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100" idx="3"/>
            <a:endCxn id="101" idx="1"/>
          </p:cNvCxnSpPr>
          <p:nvPr/>
        </p:nvCxnSpPr>
        <p:spPr>
          <a:xfrm flipV="1">
            <a:off x="3313080" y="3405960"/>
            <a:ext cx="2699280" cy="6764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0" idx="3"/>
            <a:endCxn id="98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t schwar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hletablet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9560" y="54936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ot schwar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6" idx="3"/>
            <a:endCxn id="168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9" name=""/>
          <p:cNvCxnSpPr>
            <a:stCxn id="166" idx="3"/>
            <a:endCxn id="170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C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76400" y="549360"/>
            <a:ext cx="75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schwarz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eläna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76400" y="549360"/>
            <a:ext cx="75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schwarz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eläna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4" idx="3"/>
            <a:endCxn id="17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mmunmedi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hrombozytope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hrlichia-platys-Infekt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80" idx="3"/>
            <a:endCxn id="181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76400" y="549360"/>
            <a:ext cx="75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ot schwarz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eläna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6400" y="549360"/>
            <a:ext cx="75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schwarz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eläna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equestra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4" idx="3"/>
            <a:endCxn id="18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stemische 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immunkrankhei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ors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76400" y="549360"/>
            <a:ext cx="75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schwarz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eläna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9" idx="3"/>
            <a:endCxn id="19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 Acetylsalicylsäur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on Willebrand-Faktor-Mange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erglobuli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rämi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5" idx="3"/>
            <a:endCxn id="196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83240" y="549360"/>
            <a:ext cx="78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ot schwarz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eläna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83240" y="549360"/>
            <a:ext cx="78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schwarz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eläna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angel an 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99" idx="3"/>
            <a:endCxn id="20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4" name=""/>
          <p:cNvCxnSpPr>
            <a:endCxn id="20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83240" y="549360"/>
            <a:ext cx="78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schwarz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eläna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angel an Gerinnungsfaktor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206" idx="3"/>
            <a:endCxn id="20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11" name=""/>
          <p:cNvCxnSpPr>
            <a:endCxn id="20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83240" y="549360"/>
            <a:ext cx="78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schwarz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eläna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angel an Gerinnungsfaktor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3" idx="3"/>
            <a:endCxn id="21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B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83240" y="549360"/>
            <a:ext cx="78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schwarz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eläna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angel an Gerinnungsfaktor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8" idx="3"/>
            <a:endCxn id="22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ber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län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3"/>
            <a:endCxn id="107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8" name=""/>
          <p:cNvCxnSpPr>
            <a:stCxn id="105" idx="3"/>
            <a:endCxn id="10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were 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er Dünn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5" idx="3"/>
            <a:endCxn id="110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902880" y="549360"/>
            <a:ext cx="24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ot schwar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elän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bgeschluck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87400" y="549360"/>
            <a:ext cx="82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schwarz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Meläna &gt; Störung der Hämostase &gt; 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ämostase &gt; Mangel an Gerinnungsfaktoren &gt; 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3" idx="3"/>
            <a:endCxn id="22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C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85920" y="458640"/>
            <a:ext cx="9144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geschluck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7360" y="549360"/>
            <a:ext cx="50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ot schwarz &gt; Meläna &gt; abgeschlucktes 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29" idx="3"/>
            <a:endCxn id="232" idx="1"/>
          </p:cNvCxnSpPr>
          <p:nvPr/>
        </p:nvCxnSpPr>
        <p:spPr>
          <a:xfrm>
            <a:off x="3313080" y="4080960"/>
            <a:ext cx="129456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4616280" y="1628640"/>
            <a:ext cx="3735720" cy="4905360"/>
          </a:xfrm>
          <a:custGeom>
            <a:avLst/>
            <a:gdLst>
              <a:gd name="textAreaLeft" fmla="*/ 182160 w 3735720"/>
              <a:gd name="textAreaRight" fmla="*/ 3553560 w 373572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2">
                <a:moveTo>
                  <a:pt x="3600" y="0"/>
                </a:moveTo>
                <a:arcTo wR="3600" hR="3600" stAng="16200000" swAng="-5400000"/>
                <a:lnTo>
                  <a:pt x="0" y="24762"/>
                </a:lnTo>
                <a:arcTo wR="3600" hR="3600" stAng="10800000" swAng="-5400000"/>
                <a:lnTo>
                  <a:pt x="18000" y="283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asenblut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lutung in die Maulhöhl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were 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Dünn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5560" y="549360"/>
            <a:ext cx="73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ot schwarz &gt; Meläna &gt; schwere Schädigung der Dünn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4" idx="3"/>
            <a:endCxn id="237" idx="1"/>
          </p:cNvCxnSpPr>
          <p:nvPr/>
        </p:nvCxnSpPr>
        <p:spPr>
          <a:xfrm>
            <a:off x="3313080" y="4080960"/>
            <a:ext cx="129456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616280" y="1628640"/>
            <a:ext cx="3735720" cy="4905360"/>
          </a:xfrm>
          <a:custGeom>
            <a:avLst/>
            <a:gdLst>
              <a:gd name="textAreaLeft" fmla="*/ 182160 w 3735720"/>
              <a:gd name="textAreaRight" fmla="*/ 3553560 w 373572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2">
                <a:moveTo>
                  <a:pt x="3600" y="0"/>
                </a:moveTo>
                <a:arcTo wR="3600" hR="3600" stAng="16200000" swAng="-5400000"/>
                <a:lnTo>
                  <a:pt x="0" y="24762"/>
                </a:lnTo>
                <a:arcTo wR="3600" hR="3600" stAng="10800000" swAng="-5400000"/>
                <a:lnTo>
                  <a:pt x="18000" y="283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nter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eoplas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efall mit läsionensetz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arasit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lc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remdkörpe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4" idx="3"/>
            <a:endCxn id="11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8" name=""/>
          <p:cNvCxnSpPr>
            <a:stCxn id="114" idx="3"/>
            <a:endCxn id="11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986400" y="549360"/>
            <a:ext cx="51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ot schwarz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eläna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3"/>
            <a:endCxn id="123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4" name=""/>
          <p:cNvCxnSpPr>
            <a:stCxn id="121" idx="3"/>
            <a:endCxn id="125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1" idx="3"/>
            <a:endCxn id="126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76400" y="549360"/>
            <a:ext cx="75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ot schwarz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eläna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76400" y="549360"/>
            <a:ext cx="75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schwarz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eläna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30" idx="3"/>
            <a:endCxn id="13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6" idx="3"/>
            <a:endCxn id="13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0" name=""/>
          <p:cNvCxnSpPr>
            <a:stCxn id="136" idx="3"/>
            <a:endCxn id="13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36" idx="3"/>
            <a:endCxn id="141" idx="1"/>
          </p:cNvCxnSpPr>
          <p:nvPr/>
        </p:nvCxnSpPr>
        <p:spPr>
          <a:xfrm flipV="1">
            <a:off x="3312720" y="2055600"/>
            <a:ext cx="2699640" cy="202608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4" name=""/>
          <p:cNvCxnSpPr>
            <a:stCxn id="136" idx="3"/>
            <a:endCxn id="142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1076400" y="549360"/>
            <a:ext cx="75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ot schwarz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eläna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76400" y="549360"/>
            <a:ext cx="75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schwarz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eläna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2" name=""/>
          <p:cNvCxnSpPr>
            <a:endCxn id="15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549360"/>
            <a:ext cx="80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schwarz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eläna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orwiegend 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4" idx="3"/>
            <a:endCxn id="15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dere Rickettsien-Infektion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influss von Östrog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eLV-Infek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6396840"/>
            <a:ext cx="285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eLV = felines Leukämievir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6400" y="549360"/>
            <a:ext cx="75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schwarz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eläna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0" idx="3"/>
            <a:endCxn id="16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Sulfonam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 Östr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. a. Hun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3800" y="639684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Gregor und Steffi</cp:lastModifiedBy>
  <cp:lastPrinted>1999-05-13T12:26:48Z</cp:lastPrinted>
  <dcterms:modified xsi:type="dcterms:W3CDTF">2008-10-16T14:39:22Z</dcterms:modified>
  <cp:revision>338</cp:revision>
  <dc:subject/>
  <dc:title>Vorstellung einer Neuheit</dc:title>
</cp:coreProperties>
</file>